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A1FF-D33A-4C97-94D6-91A4162F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A91F-25D2-4078-8615-019BB47E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6C21-49BC-4585-B871-A142F0EA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E293-5DC1-4CB0-B512-8F7979CB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9887-E170-46A0-A756-4B0E5985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1E9F-C4C6-4C7A-AA82-F6CE9AFB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5C13-6939-4A70-9381-74B46AF4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3F63-B04C-4910-BAF8-443E4AE5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D7D9-E74B-4EA7-B695-19A1FEF7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FEFB-2CFD-402D-805F-8C68EA0C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BF5B-7E1B-4D8A-A602-0FDD2120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6780-8F07-4CF0-BA02-6070CBE9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C0DF-C377-49C7-B4A4-A6DDD9E70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1.9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ying and Dividing Inte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2209680"/>
            <a:ext cx="7696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ltiplying Inte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ividing Inte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915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9000" y="1284120"/>
            <a:ext cx="8764560" cy="4297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213372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467480" y="3214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3581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53280" y="35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4419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0100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5105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60958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the two objectiv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137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520" y="586728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20:19:41Z</dcterms:created>
  <dc:creator>Susannah Graham</dc:creator>
  <dc:description/>
  <dc:language>en-US</dc:language>
  <cp:lastModifiedBy>Graham</cp:lastModifiedBy>
  <dcterms:modified xsi:type="dcterms:W3CDTF">2011-08-18T12:59:10Z</dcterms:modified>
  <cp:revision>3</cp:revision>
  <dc:subject/>
  <dc:title>Lesson 1.9 Multiplying and Dividing Integers</dc:title>
</cp:coreProperties>
</file>